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4372-70C7-4565-BF40-321AF8839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1FC4-0F72-4325-A95F-94640CAE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63B4-5C44-45B9-A497-0C2F41B1D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2AE0-9FDF-430C-AA98-24BE483A4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AAE7-7D08-41D3-9EB7-AE7B620A7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5030-EBAB-4357-8FD3-608AA14E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FF2F0-1971-40B3-BE2C-37CCA770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E1055-9F59-493A-9B04-648695E8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3892-52D5-4178-B5C5-0DBF5C4D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C559-B818-4B39-8249-30100B02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1AAD-99A9-4E52-B9F7-9668694D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6C28-5ACD-4E3B-A0A5-E959E61E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AEC4-2C1C-4150-94D4-0D2D356A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A158-22E7-493D-ACAC-1D2E36C9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C1B15-93A5-4A77-A119-F0732DF4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93A8-5E9F-4571-882C-5642169CA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426A-BDB3-45FA-ABF5-9D8E1DE7C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54E1-0C44-480C-90A5-4DA3F9FC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73DE-2709-4E16-9781-3EE25995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9980-52AB-4D43-B986-D0EAC69D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49F4-8FCF-48BC-85E7-429D1AA4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08E1-AEDD-4A4B-81E6-8F777D1B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7755-C0A1-4600-B1FD-E2FFDFD9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0BC2-6258-4BC2-BD0F-474CB6DD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5959"/>
            </a:gs>
            <a:gs pos="100000">
              <a:srgbClr val="eaeaea"/>
            </a:gs>
          </a:gsLst>
          <a:lin ang="4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0410-9B04-45DB-AA82-759242428C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5959"/>
            </a:gs>
            <a:gs pos="100000">
              <a:srgbClr val="eaeaea"/>
            </a:gs>
          </a:gsLst>
          <a:lin ang="4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E3DF-1F87-4A27-BBC6-637A20CFAA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3;&#1072;&#1088;&#1082;&#1086;&#1090;&#1080;&#1082;&#1080;" TargetMode="External"/><Relationship Id="rId2" Type="http://schemas.openxmlformats.org/officeDocument/2006/relationships/hyperlink" Target="http://ru.wikipedia.org/wiki/&#1040;&#1083;&#1082;&#1086;&#1075;&#1086;&#1083;&#1100;&#1085;&#1099;&#1077;_&#1085;&#1072;&#1087;&#1080;&#1090;&#1082;&#1080;" TargetMode="External"/><Relationship Id="rId3" Type="http://schemas.openxmlformats.org/officeDocument/2006/relationships/hyperlink" Target="http://ru.wikipedia.org/wiki/&#1057;&#1080;&#1085;&#1076;&#1088;&#1086;&#1084;_&#1087;&#1089;&#1080;&#1093;&#1080;&#1095;&#1077;&#1089;&#1082;&#1086;&#1081;_&#1079;&#1072;&#1074;&#1080;&#1089;&#1080;&#1084;&#1086;&#1089;&#1090;&#1080;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85680" y="1785600"/>
            <a:ext cx="6172200" cy="251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Вредные привычки. Употребление алкоголя и его влияние на здоровье человека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010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0019"/>
          <p:cNvPicPr/>
          <p:nvPr/>
        </p:nvPicPr>
        <p:blipFill>
          <a:blip r:embed="rId1"/>
          <a:stretch/>
        </p:blipFill>
        <p:spPr>
          <a:xfrm>
            <a:off x="122400" y="-23760"/>
            <a:ext cx="294948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642960" y="50004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данным специалистов, употребление спиртных напитков лицами моложе 20 лет примерно в 76% случаев приводит к алкоголиз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Содержимое 4" descr="20081028151940.jpg"/>
          <p:cNvPicPr/>
          <p:nvPr/>
        </p:nvPicPr>
        <p:blipFill>
          <a:blip r:embed="rId1"/>
          <a:stretch/>
        </p:blipFill>
        <p:spPr>
          <a:xfrm>
            <a:off x="285840" y="1357200"/>
            <a:ext cx="3375000" cy="3544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230279"/>
          <p:cNvPicPr/>
          <p:nvPr/>
        </p:nvPicPr>
        <p:blipFill>
          <a:blip r:embed="rId2"/>
          <a:stretch/>
        </p:blipFill>
        <p:spPr>
          <a:xfrm>
            <a:off x="4214880" y="2928960"/>
            <a:ext cx="46432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571680" y="142920"/>
            <a:ext cx="82152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коголь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ашный, злейший порок челове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о, душу и раз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щадишь, а жестоко калечишь 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иная с седой стари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 идёшь, собирая ужасную да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льких ты искалечи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вращая в пропойную рван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ял молодость, си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увёл за собой от любим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лько в жизни прош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мо радости, счастья мим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лько ты загуб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отцов, и детей, и талантов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поёт, а дорож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рипка в пьяных руках музыка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губи род людск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одых пожалей, не тра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 порочную д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собою их всех не зо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чь, с дороги уйд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наполню стакан твоим я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ишь, жизнь вперед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мне лишних проблем в ней не над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Содержимое 7" descr="alkogolizm.jpg"/>
          <p:cNvPicPr/>
          <p:nvPr/>
        </p:nvPicPr>
        <p:blipFill>
          <a:blip r:embed="rId1"/>
          <a:stretch/>
        </p:blipFill>
        <p:spPr>
          <a:xfrm>
            <a:off x="4643280" y="2357280"/>
            <a:ext cx="429264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" descr="20147_Preview.jpg"/>
          <p:cNvPicPr/>
          <p:nvPr/>
        </p:nvPicPr>
        <p:blipFill>
          <a:blip r:embed="rId1"/>
          <a:stretch/>
        </p:blipFill>
        <p:spPr>
          <a:xfrm>
            <a:off x="714240" y="2357280"/>
            <a:ext cx="8048880" cy="4024440"/>
          </a:xfrm>
          <a:prstGeom prst="rect">
            <a:avLst/>
          </a:prstGeom>
          <a:ln w="0">
            <a:noFill/>
          </a:ln>
        </p:spPr>
      </p:pic>
      <p:sp>
        <p:nvSpPr>
          <p:cNvPr id="117" name="TextBox 2"/>
          <p:cNvSpPr/>
          <p:nvPr/>
        </p:nvSpPr>
        <p:spPr>
          <a:xfrm>
            <a:off x="857160" y="714240"/>
            <a:ext cx="792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Задумайся!       Выбор за тобой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1" descr="photo08.jpg"/>
          <p:cNvPicPr/>
          <p:nvPr/>
        </p:nvPicPr>
        <p:blipFill>
          <a:blip r:embed="rId1"/>
          <a:stretch/>
        </p:blipFill>
        <p:spPr>
          <a:xfrm>
            <a:off x="490680" y="233280"/>
            <a:ext cx="3510000" cy="49626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2" descr="photo11.jpg"/>
          <p:cNvPicPr/>
          <p:nvPr/>
        </p:nvPicPr>
        <p:blipFill>
          <a:blip r:embed="rId2"/>
          <a:stretch/>
        </p:blipFill>
        <p:spPr>
          <a:xfrm>
            <a:off x="5143680" y="2071800"/>
            <a:ext cx="328608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NoAlcoholics"/>
          <p:cNvPicPr/>
          <p:nvPr/>
        </p:nvPicPr>
        <p:blipFill>
          <a:blip r:embed="rId1"/>
          <a:stretch/>
        </p:blipFill>
        <p:spPr>
          <a:xfrm>
            <a:off x="826920" y="404640"/>
            <a:ext cx="7490160" cy="604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02373"/>
          <p:cNvPicPr/>
          <p:nvPr/>
        </p:nvPicPr>
        <p:blipFill>
          <a:blip r:embed="rId1">
            <a:lum bright="38000"/>
          </a:blip>
          <a:stretch/>
        </p:blipFill>
        <p:spPr>
          <a:xfrm>
            <a:off x="395280" y="404640"/>
            <a:ext cx="8353440" cy="60724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3642840"/>
            <a:ext cx="8229600" cy="24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c00000"/>
                </a:solidFill>
                <a:latin typeface="Calibri"/>
              </a:rPr>
              <a:t>«Действие алкоголя сказывается своим губительным влиянием на качестве и количестве нашей работы, на нашем здоровье, в том числе и на здоровье нового поколения, на нашей семье и на всём нашем быту». (А.В.Луначарский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Latha"/>
              </a:rPr>
              <a:t>Алкоголиз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9640" y="1213920"/>
            <a:ext cx="835344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из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наркотическ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висимость, характеризующаяся болезненным пристрастием к употреблению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алкогольных напитк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психическ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физическая зависимость) и алкогольным поражением внутренних органов. При алкоголизме происходит деградация человека как лич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вседневной жизни и исторически алкоголизмом называют состояние, которое приводит к постоянному употреблению алкогольных напитков, несмотря на проблемы со здоровьем и негативные социальные последств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ое определение в медицине описывает алкоголизм как болезнь и наркотическую зависимость, которая приводит к систематическому потреблению алкоголя, несмотря на негативные последств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684360" y="476280"/>
            <a:ext cx="75596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2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Impact"/>
              </a:rPr>
              <a:t>Мотивы пьянства подростк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Impact"/>
              <a:ea typeface="Impact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250920" y="1628640"/>
            <a:ext cx="3529080" cy="2159280"/>
          </a:xfrm>
          <a:prstGeom prst="flowChartDecision">
            <a:avLst/>
          </a:pr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2843280" y="2637000"/>
            <a:ext cx="3529080" cy="2158920"/>
          </a:xfrm>
          <a:prstGeom prst="flowChartDecision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5219640" y="3789360"/>
            <a:ext cx="3529080" cy="2158920"/>
          </a:xfrm>
          <a:prstGeom prst="flowChartDecision">
            <a:avLst/>
          </a:prstGeom>
          <a:solidFill>
            <a:srgbClr val="e6b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818640" y="2325600"/>
            <a:ext cx="243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Желание следов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радиц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570120" y="3425760"/>
            <a:ext cx="20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Для храброст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6073560" y="4508640"/>
            <a:ext cx="15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нять с себ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пря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9"/>
          <p:cNvSpPr/>
          <p:nvPr/>
        </p:nvSpPr>
        <p:spPr>
          <a:xfrm>
            <a:off x="1979640" y="1125360"/>
            <a:ext cx="144360" cy="503280"/>
          </a:xfrm>
          <a:prstGeom prst="downArrow">
            <a:avLst>
              <a:gd name="adj1" fmla="val 50000"/>
              <a:gd name="adj2" fmla="val 8715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0"/>
          <p:cNvSpPr/>
          <p:nvPr/>
        </p:nvSpPr>
        <p:spPr>
          <a:xfrm>
            <a:off x="4643280" y="1125360"/>
            <a:ext cx="216000" cy="1656000"/>
          </a:xfrm>
          <a:prstGeom prst="downArrow">
            <a:avLst>
              <a:gd name="adj1" fmla="val 50000"/>
              <a:gd name="adj2" fmla="val 19166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1"/>
          <p:cNvSpPr/>
          <p:nvPr/>
        </p:nvSpPr>
        <p:spPr>
          <a:xfrm>
            <a:off x="7020000" y="1125360"/>
            <a:ext cx="216000" cy="2735280"/>
          </a:xfrm>
          <a:prstGeom prst="downArrow">
            <a:avLst>
              <a:gd name="adj1" fmla="val 50000"/>
              <a:gd name="adj2" fmla="val 316583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214200" y="285840"/>
            <a:ext cx="82486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Calibri"/>
              </a:rPr>
              <a:t>Лицо подросткового алкоголи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alco05"/>
          <p:cNvPicPr/>
          <p:nvPr/>
        </p:nvPicPr>
        <p:blipFill>
          <a:blip r:embed="rId1"/>
          <a:stretch/>
        </p:blipFill>
        <p:spPr>
          <a:xfrm>
            <a:off x="477720" y="2251080"/>
            <a:ext cx="3768840" cy="3606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alco14"/>
          <p:cNvPicPr/>
          <p:nvPr/>
        </p:nvPicPr>
        <p:blipFill>
          <a:blip r:embed="rId2"/>
          <a:stretch/>
        </p:blipFill>
        <p:spPr>
          <a:xfrm>
            <a:off x="4708440" y="2243160"/>
            <a:ext cx="3957840" cy="35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0920" y="214200"/>
            <a:ext cx="7993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0000"/>
                </a:solidFill>
                <a:latin typeface="Calibri"/>
              </a:rPr>
              <a:t>Влияние алкоголя на нервную систему  человека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68360" y="1785960"/>
          <a:ext cx="8424720" cy="4846680"/>
        </p:xfrm>
        <a:graphic>
          <a:graphicData uri="http://schemas.openxmlformats.org/drawingml/2006/table">
            <a:tbl>
              <a:tblPr/>
              <a:tblGrid>
                <a:gridCol w="2808360"/>
                <a:gridCol w="5616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оголя в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йств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4 - 0,0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ключается кора головного мозга, человек теряет контроль над собо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гнетаются более глубокие отделы головного мозга, контролирующие движения(беспричинная радость)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лияет на области мозга, контролирующие эмоциональное поведение человека(внезапная агрессивность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ходится хоть и в сознании, но непонимает того, что видит и слышит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едет к потери созн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6 - 0,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жет наступить смерт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"/>
          <p:cNvSpPr/>
          <p:nvPr/>
        </p:nvSpPr>
        <p:spPr>
          <a:xfrm>
            <a:off x="357120" y="857160"/>
            <a:ext cx="792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Алкоголь- это порождение варварства- мёртвой хваткой держит человечество со времён седой старины и собирает с него чудовищную дань, пожирая молодость, подрывая силы, подавляя энергию, губя лучший цвет рода людског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Д.Лондо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329"/>
          <p:cNvPicPr/>
          <p:nvPr/>
        </p:nvPicPr>
        <p:blipFill>
          <a:blip r:embed="rId1"/>
          <a:srcRect l="0" t="0" r="269" b="8332"/>
          <a:stretch/>
        </p:blipFill>
        <p:spPr>
          <a:xfrm>
            <a:off x="1643040" y="2357280"/>
            <a:ext cx="5286240" cy="39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785880" y="642960"/>
            <a:ext cx="77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Вино губит телесное здоровье людей, губит умственные способности, губит благосостояние семей и, что всего ужаснее, губит души людей и их потомк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Гёт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alcoholic__no__580_no"/>
          <p:cNvPicPr/>
          <p:nvPr/>
        </p:nvPicPr>
        <p:blipFill>
          <a:blip r:embed="rId1"/>
          <a:stretch/>
        </p:blipFill>
        <p:spPr>
          <a:xfrm>
            <a:off x="1500120" y="1785960"/>
            <a:ext cx="617868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571680" y="71424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Чем моложе пьющее лицо, тем скорее оно становится алкоголико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русский психиатр А.М. Корови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30d2ba3982b4958b753b00d798c9a692"/>
          <p:cNvPicPr/>
          <p:nvPr/>
        </p:nvPicPr>
        <p:blipFill>
          <a:blip r:embed="rId1"/>
          <a:stretch/>
        </p:blipFill>
        <p:spPr>
          <a:xfrm>
            <a:off x="1143000" y="1571760"/>
            <a:ext cx="6821640" cy="49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10:42:11Z</dcterms:created>
  <dc:creator>Admin</dc:creator>
  <dc:description/>
  <dc:language>en-US</dc:language>
  <cp:lastModifiedBy>биология</cp:lastModifiedBy>
  <dcterms:modified xsi:type="dcterms:W3CDTF">2010-11-27T05:31:15Z</dcterms:modified>
  <cp:revision>10</cp:revision>
  <dc:subject/>
  <dc:title>Урок ОБЖ в 10 классе Тема: «Вредные привычки. Употребление алкоголя и его влияние на здоровье человека».</dc:title>
</cp:coreProperties>
</file>